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23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28.jpeg" ContentType="image/jpeg"/>
  <Override PartName="/ppt/media/image12.jpeg" ContentType="image/jpeg"/>
  <Override PartName="/ppt/media/image13.png" ContentType="image/pn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png" ContentType="image/pn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7.png" ContentType="image/png"/>
  <Override PartName="/ppt/media/image8.png" ContentType="image/png"/>
  <Override PartName="/ppt/media/image14.jpeg" ContentType="image/jpeg"/>
  <Override PartName="/ppt/media/image10.jpeg" ContentType="image/jpeg"/>
  <Override PartName="/ppt/media/image29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C6CA-833B-4A6B-A769-1AD806AF1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75F6-7B97-44EF-BB3E-7FB36D6F1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D2888B-F655-4F93-928D-E19352EBE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3ACC50-985F-4544-B834-BA2BCBDAA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C38411-CE41-4B3A-AA3A-6A82FB443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928F0D-473D-49F2-A08A-3AC45C1F9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1D1873-F1E2-4598-9BF6-BE34F9E18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BC6E2E-0DA8-4CCA-9F9A-465D8DDD5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88D8F2-B5FC-4586-BEC8-0C5CE4962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85792D-0372-41F5-9274-6FAAB1ADD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342695-930C-403B-8527-02A676B26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DA3A-78DE-45EC-99D3-F454C188C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69DF-B3EA-4584-AE30-2E1CAB163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FC651-CFB5-483A-B7E7-6C08924A1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68EFB-93F3-4097-AA4E-10C3B2E27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D00F6-72E5-488E-880E-C67248E84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805C7-72D0-4A6E-AA9F-7CC9C9FE3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FF366-65EE-4B2F-9B58-1A23FE0D4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6FD10-CC1D-48F8-9FF1-9BE9D695D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FDAD5-9B13-4C6A-B087-AB439E9A9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1A40-B611-4E74-9595-D3F29BEB6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FEA07-1EF8-4E48-B474-64D1D7368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97005-BA3B-4638-9FBB-1A470D9D2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413BD-5290-4D81-A674-FD9BF6822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E3B26-1C11-4679-914E-4709382E5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D51AD-F427-44B2-805D-E9C9BBDE7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67788-EBC0-4299-AA98-C98DBEB68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F31F3-51F7-4A9A-A257-E36419ACE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D45A9-5926-4D10-BE25-C86144B36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4A527-550E-4C2D-866C-48A521D0B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722D3-E525-411D-ADB2-D6AA593ED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6CC3-2933-4D8B-94B4-FE7A25D0E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12161-BD62-4BA7-B879-89FD82F73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D5666-7080-4C64-B401-D484F5AB5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C88F3-2606-4142-A028-9A0ED1159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3C3CE-9532-4DA3-9F01-F16E49EB8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88988-7EFB-4FF5-BE6E-142128B71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EEF05-5E98-4778-BE4E-163D3CF17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880F7-6481-4AB8-9CCB-E3670C123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EB3C7-DB88-45D8-AE3A-A8237906B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37119-FE0C-4122-84AB-C34200781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01FCB-7384-4CDD-8DCC-D00EA0380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602D-7CBA-491D-BD8A-EB423A640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9549D-0550-4715-BA29-20713CE99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241F0-AD4E-4E9F-88D9-ADAA2D902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23D2B-157E-454C-8C42-4E2D8D133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62E77-2B9B-42C4-91EB-A30DB94CC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F4268-C865-4CFF-A53A-EA9FE0F3A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FDA82-3309-49CE-9681-3417994B2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331E9-CC08-4346-A6B0-9FF42A042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E3C38-2038-4BE9-B876-2036FED64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F73A2-61F2-4367-8067-02CDB92BD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94885A-F878-4F2D-949E-CD6D30F9A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BEBD-72CE-4FF8-820C-A7AC53243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C25B58-2968-45C1-9D25-4802C28DD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70D8C0-47B8-4A8F-81CC-D1B822272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E21848-10CE-4E51-9F11-F3EFD97AE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E78D59-19D4-4104-A749-BD05850F7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3DB565-BA5F-4377-B6D6-0BA15D655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C56B81-1E1F-4EAF-B063-DE4AD9147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1739E0-5D89-43FA-9A67-CF0F6CA04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CFF7E9-7C06-452E-B178-B90B49271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18B000-D2FD-42E8-AEED-500E7A0D9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E5B0C3-2176-4F8D-8DD9-FDAF4D241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3C1B-1C61-4ECD-8A9E-276364679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B1946F-7661-40CC-8C75-12FFB21F7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0407A9-DD9B-4627-A2B6-501CD6A5C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E649FA-A1B4-4032-9CCD-8D53608C5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3AB0DA-5B73-4A0A-AB3E-6003B7FFC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4A9C51-A10C-4A14-A923-74387ED87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EF0EA3-E49D-4C04-8E3A-A9A7829D6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06C5B4-0851-40B0-B62E-D2582B987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887C18-C44F-438F-B14D-127FC640C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75177D-0D04-4504-BAA4-573518A75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9F0E41-FCC4-4E81-AF25-519A473EF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AE39-BABE-4F08-9CEC-930BF777A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AE8228-7106-4A30-A97A-8676CC33C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3D62C0-234A-4E2F-ACB8-2E6D02ACA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CBA598-9512-492B-83F2-71F2548EF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B47226-DEB7-447B-8254-171009D84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6C3273-5635-4584-A024-EB0457A60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66F342-9545-431B-8C2D-44D2D1BBB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DBD419-5B2C-4DAE-9A1A-0693B9CE6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6A8E8D-21F8-47D8-94F0-CEC09AEE0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942721-F380-4DC4-95E5-DEA20B29C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71A6B5-CBAC-4966-AD2F-FE9D630B6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A798-FFCC-44E2-AA8B-924221A6C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50C538-567A-454E-AA7B-A54833293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8869A7-1A42-4B28-BDB6-854138B62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A9D940-33E8-4FA6-B113-85744C92B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3D484C-DB0A-4670-A7DA-71E7BF37B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1F73AD-3849-4057-8607-CF6E583BF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8B58D3-8B43-4ADC-B37A-8EE82692C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EC5A37-2428-44D3-9696-FFA3CC9C3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571E88-7EBC-4AA1-B1EC-E8B356216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A5C3C3-957D-4556-AC3C-4B97B612F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8F51D5-9D3B-4328-8FAF-115795566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86BE-C4D0-44C3-917F-0EA7F74E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BF12AA-03AD-49B9-9853-4CBEE4982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E44A92-C3B6-4C97-858D-E510078D1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B10E2E-ED8B-4D79-B5A7-D1E0160E0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265C13-DF99-4538-A162-1EC3610D4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24A45B-08D2-4BA0-A6F0-A24A64150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DAAA6D-87BC-4D2D-87C4-A7A1CC2B2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7A0A94-0A9A-40A8-B6E4-CDA5475D0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9E6834-7E75-440E-8324-11F017B5F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03AA42-373C-457E-86EA-F749CA94E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A536FE-6B81-42B8-A0AA-6E65DA504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03BF0-90BE-42E4-850B-FD6A8FE3B3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2A467-8595-44FF-8409-D6BA69CCA3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21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9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DEA58-E030-4B66-855F-63FCBE845C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6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18136-0C8D-4856-8A75-1C1F1FE461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D3AAF-DD17-41B9-BA95-C137662913D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314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5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2462D-7C88-4023-B07C-4B8660B1E5F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370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969E9-4F3D-4694-B398-3FFF4779FE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9B65F-B494-428D-9D05-931A281143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D3983-01FD-472C-8DA0-23628B3213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9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7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7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5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image" Target="../media/image38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9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7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784872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een Light"/>
              </a:rPr>
              <a:t>Energy Sources</a:t>
            </a:r>
            <a:r>
              <a:rPr b="0" lang="en-US" sz="8000" spc="-1" strike="noStrike">
                <a:solidFill>
                  <a:srgbClr val="000000"/>
                </a:solidFill>
                <a:latin typeface="Amienne"/>
              </a:rPr>
              <a:t> </a:t>
            </a:r>
            <a:br>
              <a:rPr sz="8000"/>
            </a:br>
            <a:r>
              <a:rPr b="0" lang="en-US" sz="3600" spc="-1" strike="noStrike">
                <a:solidFill>
                  <a:srgbClr val="000000"/>
                </a:solidFill>
                <a:latin typeface="Teen Light"/>
              </a:rPr>
              <a:t>By: Jessica and Al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395280" y="3789360"/>
            <a:ext cx="1919160" cy="287964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2"/>
          <a:stretch/>
        </p:blipFill>
        <p:spPr>
          <a:xfrm>
            <a:off x="6012000" y="260280"/>
            <a:ext cx="2663640" cy="199872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3"/>
          <a:stretch/>
        </p:blipFill>
        <p:spPr>
          <a:xfrm>
            <a:off x="108000" y="333360"/>
            <a:ext cx="2448000" cy="183672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4"/>
          <a:stretch/>
        </p:blipFill>
        <p:spPr>
          <a:xfrm>
            <a:off x="2916360" y="3789360"/>
            <a:ext cx="5743440" cy="2752560"/>
          </a:xfrm>
          <a:prstGeom prst="rect">
            <a:avLst/>
          </a:prstGeom>
          <a:ln w="0">
            <a:noFill/>
          </a:ln>
        </p:spPr>
      </p:pic>
      <p:pic>
        <p:nvPicPr>
          <p:cNvPr id="547" name="" descr=""/>
          <p:cNvPicPr/>
          <p:nvPr/>
        </p:nvPicPr>
        <p:blipFill>
          <a:blip r:embed="rId5"/>
          <a:stretch/>
        </p:blipFill>
        <p:spPr>
          <a:xfrm>
            <a:off x="2987640" y="260280"/>
            <a:ext cx="2087640" cy="15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 txBox="1"/>
          <p:nvPr/>
        </p:nvSpPr>
        <p:spPr>
          <a:xfrm>
            <a:off x="2411280" y="4761000"/>
            <a:ext cx="5027760" cy="20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Blue Highway"/>
              </a:rPr>
              <a:t>Hydro </a:t>
            </a:r>
            <a:endParaRPr b="0" lang="en-US" sz="72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Blue Highway"/>
              <a:ea typeface="Blue Highwa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5ffff"/>
                </a:solidFill>
                <a:latin typeface="Birch Std"/>
              </a:rPr>
              <a:t>How it Works</a:t>
            </a:r>
            <a:r>
              <a:rPr b="0" lang="en-US" sz="7200" spc="-1" strike="noStrike">
                <a:solidFill>
                  <a:srgbClr val="e5ffff"/>
                </a:solidFill>
                <a:latin typeface="Agency FB"/>
              </a:rPr>
              <a:t>…</a:t>
            </a:r>
            <a:endParaRPr b="0" lang="en-US" sz="7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Water flows through a PENSTOCK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The water spins a TURBIN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Which is connected to a SHAFT and a GENERATO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Which spins and produces electricity</a:t>
            </a:r>
            <a:r>
              <a:rPr b="0" lang="en-US" sz="3600" spc="-1" strike="noStrike">
                <a:solidFill>
                  <a:srgbClr val="ffffff"/>
                </a:solidFill>
                <a:latin typeface="Agency FB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8" name="" descr=""/>
          <p:cNvPicPr/>
          <p:nvPr/>
        </p:nvPicPr>
        <p:blipFill>
          <a:blip r:embed="rId2"/>
          <a:stretch/>
        </p:blipFill>
        <p:spPr>
          <a:xfrm>
            <a:off x="1403280" y="4365720"/>
            <a:ext cx="698508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" descr=""/>
          <p:cNvPicPr/>
          <p:nvPr/>
        </p:nvPicPr>
        <p:blipFill>
          <a:blip r:embed="rId1"/>
          <a:stretch/>
        </p:blipFill>
        <p:spPr>
          <a:xfrm>
            <a:off x="395280" y="3357720"/>
            <a:ext cx="6192720" cy="3357360"/>
          </a:xfrm>
          <a:prstGeom prst="rect">
            <a:avLst/>
          </a:prstGeom>
          <a:ln w="0">
            <a:noFill/>
          </a:ln>
        </p:spPr>
      </p:pic>
      <p:pic>
        <p:nvPicPr>
          <p:cNvPr id="580" name="" descr=""/>
          <p:cNvPicPr/>
          <p:nvPr/>
        </p:nvPicPr>
        <p:blipFill>
          <a:blip r:embed="rId2"/>
          <a:stretch/>
        </p:blipFill>
        <p:spPr>
          <a:xfrm>
            <a:off x="1476360" y="189000"/>
            <a:ext cx="7246800" cy="30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91440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5ffff"/>
                </a:solidFill>
                <a:latin typeface="Biondi"/>
              </a:rPr>
              <a:t>Hydro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82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3384360" cy="2822400"/>
          </a:xfrm>
          <a:prstGeom prst="rect">
            <a:avLst/>
          </a:prstGeom>
          <a:ln w="0">
            <a:noFill/>
          </a:ln>
        </p:spPr>
      </p:pic>
      <p:pic>
        <p:nvPicPr>
          <p:cNvPr id="583" name="" descr=""/>
          <p:cNvPicPr/>
          <p:nvPr/>
        </p:nvPicPr>
        <p:blipFill>
          <a:blip r:embed="rId3"/>
          <a:stretch/>
        </p:blipFill>
        <p:spPr>
          <a:xfrm>
            <a:off x="4284720" y="1844640"/>
            <a:ext cx="4537080" cy="3505320"/>
          </a:xfrm>
          <a:prstGeom prst="rect">
            <a:avLst/>
          </a:prstGeom>
          <a:ln w="0">
            <a:noFill/>
          </a:ln>
        </p:spPr>
      </p:pic>
      <p:pic>
        <p:nvPicPr>
          <p:cNvPr id="584" name="" descr=""/>
          <p:cNvPicPr/>
          <p:nvPr/>
        </p:nvPicPr>
        <p:blipFill>
          <a:blip r:embed="rId4"/>
          <a:stretch/>
        </p:blipFill>
        <p:spPr>
          <a:xfrm>
            <a:off x="250920" y="3716280"/>
            <a:ext cx="3744720" cy="25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6" name=""/>
          <p:cNvSpPr txBox="1"/>
          <p:nvPr/>
        </p:nvSpPr>
        <p:spPr>
          <a:xfrm>
            <a:off x="1476360" y="115920"/>
            <a:ext cx="612144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een Light"/>
              </a:rPr>
              <a:t>Tidal Energy </a:t>
            </a:r>
            <a:endParaRPr b="0" lang="en-US" sz="72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een Light"/>
              <a:ea typeface="Teen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dobe Caslon Pro Bold"/>
              </a:rPr>
              <a:t>How it Works…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irch Std"/>
              </a:rPr>
              <a:t>When water levels are high in the ocean tides are producing and rush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irch Std"/>
              </a:rPr>
              <a:t>Barrages are installed under the corner of the ri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irch Std"/>
              </a:rPr>
              <a:t>Water turbines are installed in the barrag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irch Std"/>
              </a:rPr>
              <a:t>When the water or tides rushes through the turbines it produces electricity</a:t>
            </a:r>
            <a:r>
              <a:rPr b="0" lang="en-US" sz="2000" spc="-1" strike="noStrike">
                <a:solidFill>
                  <a:srgbClr val="ffffff"/>
                </a:solidFill>
                <a:latin typeface="DESTIN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1"/>
          <a:stretch/>
        </p:blipFill>
        <p:spPr>
          <a:xfrm>
            <a:off x="2700360" y="4076640"/>
            <a:ext cx="431964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611280" y="115920"/>
            <a:ext cx="2923920" cy="2924280"/>
          </a:xfrm>
          <a:prstGeom prst="rect">
            <a:avLst/>
          </a:prstGeom>
          <a:ln w="0">
            <a:noFill/>
          </a:ln>
        </p:spPr>
      </p:pic>
      <p:pic>
        <p:nvPicPr>
          <p:cNvPr id="591" name="" descr=""/>
          <p:cNvPicPr/>
          <p:nvPr/>
        </p:nvPicPr>
        <p:blipFill>
          <a:blip r:embed="rId2"/>
          <a:stretch/>
        </p:blipFill>
        <p:spPr>
          <a:xfrm>
            <a:off x="4859280" y="333360"/>
            <a:ext cx="3552840" cy="304812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3"/>
          <a:stretch/>
        </p:blipFill>
        <p:spPr>
          <a:xfrm>
            <a:off x="250920" y="3213000"/>
            <a:ext cx="4033800" cy="3456000"/>
          </a:xfrm>
          <a:prstGeom prst="rect">
            <a:avLst/>
          </a:prstGeom>
          <a:ln w="0">
            <a:noFill/>
          </a:ln>
        </p:spPr>
      </p:pic>
      <p:pic>
        <p:nvPicPr>
          <p:cNvPr id="593" name="" descr=""/>
          <p:cNvPicPr/>
          <p:nvPr/>
        </p:nvPicPr>
        <p:blipFill>
          <a:blip r:embed="rId4"/>
          <a:stretch/>
        </p:blipFill>
        <p:spPr>
          <a:xfrm>
            <a:off x="4788000" y="3573360"/>
            <a:ext cx="367164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ekton Pro"/>
              </a:rPr>
              <a:t>Tidal Energy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3527640" cy="208764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5076720" y="476280"/>
            <a:ext cx="3670560" cy="3311640"/>
          </a:xfrm>
          <a:prstGeom prst="rect">
            <a:avLst/>
          </a:prstGeom>
          <a:ln w="0">
            <a:noFill/>
          </a:ln>
        </p:spPr>
      </p:pic>
      <p:pic>
        <p:nvPicPr>
          <p:cNvPr id="597" name="" descr=""/>
          <p:cNvPicPr/>
          <p:nvPr/>
        </p:nvPicPr>
        <p:blipFill>
          <a:blip r:embed="rId3"/>
          <a:stretch/>
        </p:blipFill>
        <p:spPr>
          <a:xfrm>
            <a:off x="1979640" y="3860640"/>
            <a:ext cx="5437080" cy="25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9" name=""/>
          <p:cNvSpPr txBox="1"/>
          <p:nvPr/>
        </p:nvSpPr>
        <p:spPr>
          <a:xfrm>
            <a:off x="611280" y="4869000"/>
            <a:ext cx="8388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Baveuse"/>
              </a:rPr>
              <a:t>Nuclear Power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Baveuse"/>
              <a:ea typeface="Baveus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5ffff"/>
                </a:solidFill>
                <a:latin typeface="Baveuse"/>
              </a:rPr>
              <a:t>How it works…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ff00"/>
            </a:solidFill>
            <a:miter/>
          </a:ln>
        </p:spPr>
      </p:pic>
      <p:sp>
        <p:nvSpPr>
          <p:cNvPr id="549" name=""/>
          <p:cNvSpPr txBox="1"/>
          <p:nvPr/>
        </p:nvSpPr>
        <p:spPr>
          <a:xfrm>
            <a:off x="2340000" y="620640"/>
            <a:ext cx="40323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Blue Highway"/>
              </a:rPr>
              <a:t>Wind Power</a:t>
            </a:r>
            <a:endParaRPr b="0" lang="en-US" sz="7200" spc="1" strike="noStrike">
              <a:ln w="9360">
                <a:solidFill>
                  <a:srgbClr val="00ffff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Blue Highway"/>
              <a:ea typeface="Blue Highwa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3457440" cy="2592360"/>
          </a:xfrm>
          <a:prstGeom prst="rect">
            <a:avLst/>
          </a:prstGeom>
          <a:ln w="0">
            <a:noFill/>
          </a:ln>
        </p:spPr>
      </p:pic>
      <p:pic>
        <p:nvPicPr>
          <p:cNvPr id="603" name="" descr=""/>
          <p:cNvPicPr/>
          <p:nvPr/>
        </p:nvPicPr>
        <p:blipFill>
          <a:blip r:embed="rId2"/>
          <a:stretch/>
        </p:blipFill>
        <p:spPr>
          <a:xfrm>
            <a:off x="3851280" y="115920"/>
            <a:ext cx="5183280" cy="3700440"/>
          </a:xfrm>
          <a:prstGeom prst="rect">
            <a:avLst/>
          </a:prstGeom>
          <a:ln w="0">
            <a:noFill/>
          </a:ln>
        </p:spPr>
      </p:pic>
      <p:pic>
        <p:nvPicPr>
          <p:cNvPr id="604" name="" descr=""/>
          <p:cNvPicPr/>
          <p:nvPr/>
        </p:nvPicPr>
        <p:blipFill>
          <a:blip r:embed="rId3"/>
          <a:stretch/>
        </p:blipFill>
        <p:spPr>
          <a:xfrm>
            <a:off x="179280" y="3645000"/>
            <a:ext cx="3598920" cy="2476440"/>
          </a:xfrm>
          <a:prstGeom prst="rect">
            <a:avLst/>
          </a:prstGeom>
          <a:ln w="0">
            <a:noFill/>
          </a:ln>
        </p:spPr>
      </p:pic>
      <p:pic>
        <p:nvPicPr>
          <p:cNvPr id="605" name="" descr=""/>
          <p:cNvPicPr/>
          <p:nvPr/>
        </p:nvPicPr>
        <p:blipFill>
          <a:blip r:embed="rId4"/>
          <a:stretch/>
        </p:blipFill>
        <p:spPr>
          <a:xfrm>
            <a:off x="4716360" y="4005360"/>
            <a:ext cx="3240360" cy="25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5ffff"/>
                </a:solidFill>
                <a:latin typeface="Bell Gothic Std Light"/>
              </a:rPr>
              <a:t>Nuclear Power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07" name="" descr=""/>
          <p:cNvPicPr/>
          <p:nvPr/>
        </p:nvPicPr>
        <p:blipFill>
          <a:blip r:embed="rId2"/>
          <a:stretch/>
        </p:blipFill>
        <p:spPr>
          <a:xfrm>
            <a:off x="395280" y="3716280"/>
            <a:ext cx="4105440" cy="29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403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Amienne"/>
              </a:rPr>
              <a:t>HOW IT WORKS…</a:t>
            </a:r>
            <a:br>
              <a:rPr sz="6000"/>
            </a:b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pee"/>
              </a:rPr>
              <a:t>A wind turbine operates by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lue Highway Condensed"/>
              </a:rPr>
              <a:t>The wind turns the blad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lue Highway Condensed"/>
              </a:rPr>
              <a:t>The blades spin a shaft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lue Highway Condensed"/>
              </a:rPr>
              <a:t>The shaft connects to a generator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lue Highway Condensed"/>
              </a:rPr>
              <a:t>The generator produces electric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292720" y="2276640"/>
            <a:ext cx="36082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327480" cy="2495520"/>
          </a:xfrm>
          <a:prstGeom prst="rect">
            <a:avLst/>
          </a:prstGeom>
          <a:ln w="0">
            <a:noFill/>
          </a:ln>
        </p:spPr>
      </p:pic>
      <p:pic>
        <p:nvPicPr>
          <p:cNvPr id="554" name="" descr=""/>
          <p:cNvPicPr/>
          <p:nvPr/>
        </p:nvPicPr>
        <p:blipFill>
          <a:blip r:embed="rId2"/>
          <a:stretch/>
        </p:blipFill>
        <p:spPr>
          <a:xfrm>
            <a:off x="1763640" y="2852640"/>
            <a:ext cx="5907240" cy="3792600"/>
          </a:xfrm>
          <a:prstGeom prst="rect">
            <a:avLst/>
          </a:prstGeom>
          <a:ln w="0">
            <a:noFill/>
          </a:ln>
        </p:spPr>
      </p:pic>
      <p:pic>
        <p:nvPicPr>
          <p:cNvPr id="555" name="" descr=""/>
          <p:cNvPicPr/>
          <p:nvPr/>
        </p:nvPicPr>
        <p:blipFill>
          <a:blip r:embed="rId3"/>
          <a:stretch/>
        </p:blipFill>
        <p:spPr>
          <a:xfrm>
            <a:off x="4859280" y="115920"/>
            <a:ext cx="3672000" cy="26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Forte"/>
              </a:rPr>
              <a:t>Wind Pow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3527280" cy="3024360"/>
          </a:xfrm>
          <a:prstGeom prst="rect">
            <a:avLst/>
          </a:prstGeom>
          <a:ln w="0">
            <a:noFill/>
          </a:ln>
        </p:spPr>
      </p:pic>
      <p:pic>
        <p:nvPicPr>
          <p:cNvPr id="558" name="" descr=""/>
          <p:cNvPicPr/>
          <p:nvPr/>
        </p:nvPicPr>
        <p:blipFill>
          <a:blip r:embed="rId2"/>
          <a:stretch/>
        </p:blipFill>
        <p:spPr>
          <a:xfrm>
            <a:off x="3995640" y="3789360"/>
            <a:ext cx="4210200" cy="2952720"/>
          </a:xfrm>
          <a:prstGeom prst="rect">
            <a:avLst/>
          </a:prstGeom>
          <a:ln w="0">
            <a:noFill/>
          </a:ln>
        </p:spPr>
      </p:pic>
      <p:pic>
        <p:nvPicPr>
          <p:cNvPr id="559" name="" descr=""/>
          <p:cNvPicPr/>
          <p:nvPr/>
        </p:nvPicPr>
        <p:blipFill>
          <a:blip r:embed="rId3"/>
          <a:stretch/>
        </p:blipFill>
        <p:spPr>
          <a:xfrm>
            <a:off x="5580000" y="189000"/>
            <a:ext cx="34257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1" name=""/>
          <p:cNvSpPr txBox="1"/>
          <p:nvPr/>
        </p:nvSpPr>
        <p:spPr>
          <a:xfrm>
            <a:off x="971640" y="189000"/>
            <a:ext cx="705780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SCHOOLBOY"/>
              </a:rPr>
              <a:t>Solar Energy  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SCHOOLBOY"/>
              <a:ea typeface="SCHOOLBO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Planet Benson 2"/>
              </a:rPr>
              <a:t>How solar power works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YPEMAKER"/>
              </a:rPr>
              <a:t>The sun produces light energy called </a:t>
            </a:r>
            <a:r>
              <a:rPr b="1" lang="en-US" sz="2800" spc="-1" strike="noStrike">
                <a:solidFill>
                  <a:srgbClr val="ffffff"/>
                </a:solidFill>
                <a:latin typeface="TYPEMAKER"/>
              </a:rPr>
              <a:t> PHOT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YPEMAKER"/>
              </a:rPr>
              <a:t>Solar panels capture the </a:t>
            </a:r>
            <a:r>
              <a:rPr b="1" lang="en-US" sz="2800" spc="-1" strike="noStrike">
                <a:solidFill>
                  <a:srgbClr val="ffffff"/>
                </a:solidFill>
                <a:latin typeface="TYPEMAKER"/>
              </a:rPr>
              <a:t>PHOTONS </a:t>
            </a:r>
            <a:r>
              <a:rPr b="0" lang="en-US" sz="2800" spc="-1" strike="noStrike">
                <a:solidFill>
                  <a:srgbClr val="ffffff"/>
                </a:solidFill>
                <a:latin typeface="TYPEMAKER"/>
              </a:rPr>
              <a:t>from solar radi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YPEMAKER"/>
              </a:rPr>
              <a:t>Converts energy into electricity so that we can use i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1"/>
          <a:stretch/>
        </p:blipFill>
        <p:spPr>
          <a:xfrm>
            <a:off x="2050920" y="3357720"/>
            <a:ext cx="508824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179280" y="2852640"/>
            <a:ext cx="5543640" cy="3870360"/>
          </a:xfrm>
          <a:prstGeom prst="rect">
            <a:avLst/>
          </a:prstGeom>
          <a:ln w="0">
            <a:noFill/>
          </a:ln>
        </p:spPr>
      </p:pic>
      <p:pic>
        <p:nvPicPr>
          <p:cNvPr id="566" name="" descr=""/>
          <p:cNvPicPr/>
          <p:nvPr/>
        </p:nvPicPr>
        <p:blipFill>
          <a:blip r:embed="rId2"/>
          <a:stretch/>
        </p:blipFill>
        <p:spPr>
          <a:xfrm>
            <a:off x="611280" y="189000"/>
            <a:ext cx="2808360" cy="2490840"/>
          </a:xfrm>
          <a:prstGeom prst="rect">
            <a:avLst/>
          </a:prstGeom>
          <a:ln w="0">
            <a:noFill/>
          </a:ln>
        </p:spPr>
      </p:pic>
      <p:pic>
        <p:nvPicPr>
          <p:cNvPr id="567" name="" descr=""/>
          <p:cNvPicPr/>
          <p:nvPr/>
        </p:nvPicPr>
        <p:blipFill>
          <a:blip r:embed="rId3"/>
          <a:stretch/>
        </p:blipFill>
        <p:spPr>
          <a:xfrm>
            <a:off x="4500720" y="189000"/>
            <a:ext cx="3527280" cy="2333520"/>
          </a:xfrm>
          <a:prstGeom prst="rect">
            <a:avLst/>
          </a:prstGeom>
          <a:ln w="0">
            <a:noFill/>
          </a:ln>
        </p:spPr>
      </p:pic>
      <p:pic>
        <p:nvPicPr>
          <p:cNvPr id="568" name="" descr=""/>
          <p:cNvPicPr/>
          <p:nvPr/>
        </p:nvPicPr>
        <p:blipFill>
          <a:blip r:embed="rId4"/>
          <a:stretch/>
        </p:blipFill>
        <p:spPr>
          <a:xfrm>
            <a:off x="6012000" y="3141720"/>
            <a:ext cx="2881080" cy="31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Impact"/>
              </a:rPr>
              <a:t>Solar Energ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mienne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1" name="" descr=""/>
          <p:cNvPicPr/>
          <p:nvPr/>
        </p:nvPicPr>
        <p:blipFill>
          <a:blip r:embed="rId1"/>
          <a:stretch/>
        </p:blipFill>
        <p:spPr>
          <a:xfrm>
            <a:off x="1187280" y="1268280"/>
            <a:ext cx="3699000" cy="2421000"/>
          </a:xfrm>
          <a:prstGeom prst="rect">
            <a:avLst/>
          </a:prstGeom>
          <a:ln w="0">
            <a:noFill/>
          </a:ln>
        </p:spPr>
      </p:pic>
      <p:pic>
        <p:nvPicPr>
          <p:cNvPr id="572" name="" descr=""/>
          <p:cNvPicPr/>
          <p:nvPr/>
        </p:nvPicPr>
        <p:blipFill>
          <a:blip r:embed="rId2"/>
          <a:stretch/>
        </p:blipFill>
        <p:spPr>
          <a:xfrm>
            <a:off x="5219640" y="981000"/>
            <a:ext cx="3600360" cy="2667240"/>
          </a:xfrm>
          <a:prstGeom prst="rect">
            <a:avLst/>
          </a:prstGeom>
          <a:ln w="0">
            <a:noFill/>
          </a:ln>
        </p:spPr>
      </p:pic>
      <p:pic>
        <p:nvPicPr>
          <p:cNvPr id="573" name="" descr=""/>
          <p:cNvPicPr/>
          <p:nvPr/>
        </p:nvPicPr>
        <p:blipFill>
          <a:blip r:embed="rId3"/>
          <a:stretch/>
        </p:blipFill>
        <p:spPr>
          <a:xfrm>
            <a:off x="2556000" y="3789360"/>
            <a:ext cx="4535280" cy="29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2T14:54:15Z</dcterms:created>
  <dc:creator>HWDSB</dc:creator>
  <dc:description/>
  <dc:language>en-US</dc:language>
  <cp:lastModifiedBy>HWDSB</cp:lastModifiedBy>
  <dcterms:modified xsi:type="dcterms:W3CDTF">2011-01-19T15:24:15Z</dcterms:modified>
  <cp:revision>5</cp:revision>
  <dc:subject/>
  <dc:title>Slide 1</dc:title>
</cp:coreProperties>
</file>